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E15-1FD3-4EAD-9717-E7DF9D0F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62B-00B1-4D75-B241-1925FEC6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D89-6F6B-4CD2-80F9-FEEBC9B3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EC1-C984-49D9-A61E-092106DD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B35-2AA9-4B32-A5FB-5B5E2998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1A1-559E-4922-BB69-56CDD519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C43-2CE6-4842-8AED-BC84A25A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AAA-2F7E-405E-9963-E4C081F4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5FC-66D0-43FB-81E1-3CBF8E42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C05-EEE2-4DE3-A77B-3159732C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81E-4E56-4F2D-AB09-8CFD801B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314-8909-427A-919C-6CF51A2D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6372-F795-4776-8D47-CDA6E94E0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329886SKrDwSrIIf_ph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38680" y="669960"/>
            <a:ext cx="3505320" cy="11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ربِّّي أنتَ طري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في معاثرِ الحيا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ربي أنتَ رفي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عندَ ساعةِ المم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َكَ دَعَ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رَجَو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غايةُ المُنى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مصدرُ الهَنا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6329886SKrDwSrIIf_ph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639720"/>
            <a:ext cx="350532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نارٌ لقل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أيضاً نس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 هديٌ لدرْ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فجْرِي الوسيم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َكَ دَعَ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ك رَجَوت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غايةُ المُنى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مصدرُ الهَنا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329886SKrDwSrIIf_ph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38680" y="0"/>
            <a:ext cx="3505320" cy="11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َعْضُدِ الموجَعينَ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ساعدِ البائِس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شْبعِ الجائع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رْجعِ الخاطئين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َكَ دَعَ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ك رَجَوت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غايةُ المُنى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مصدرُ الهَنا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28:57Z</dcterms:modified>
  <cp:revision>2</cp:revision>
  <dc:subject/>
  <dc:title>PowerPoint Presentation</dc:title>
</cp:coreProperties>
</file>